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A82-19E4-4F36-869F-C683CE60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E92-7A1C-4DA8-B75B-1D0B5CA3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6B9-B7B2-4F70-AE51-D19E9CE3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599-76F8-486C-BCFF-16D01CD1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CD51-D5E2-45A4-B01B-2D0D6E5A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4724-F31C-4499-9C81-905B4B93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71B2-7495-4831-B8F8-646175A8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697-E116-4222-A7EB-40CB037C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0AAC-90B4-41BB-B33D-7F1904F0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5D64-776B-4D80-B139-882F7202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033A-1655-42A2-B8B4-206E529E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6B7-EC5A-4EF0-878B-962A8892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5AAD-8AF9-4E41-99DC-F6418FBF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699C-59A5-47BA-AE99-37E895C9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4DAE-5F58-46FB-B984-5A2D35C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032A-4B21-4ED1-A15A-EB08A6A3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DE9D-2EBB-48A4-92DE-4F1F8E4F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899-6BE2-444F-B136-29D461AB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BC5-0B77-43F9-A6BD-F29AE361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EC8-9D34-49FE-8D90-1F0463CC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7B8-79A2-40A2-A7FA-CE9760DC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62D-B7C7-493A-927F-DE940E5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FAE-1595-4D24-A6F8-3AB473B8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AAD-7209-4937-9E62-9D91972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AB52-66B4-4E39-95F2-FCDB3E7FE8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934A-8A35-458D-ACBD-9E786C922A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Влияние подвижных игр на физическое развитие детей в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етском оздоровительном лагер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ускная квалификационная рабо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удента 407 групп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Бутусова А. П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Таблица 1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Дети, посещающие лагерь 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экспериментальная группа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1628640"/>
          <a:ext cx="8229600" cy="489132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792000"/>
                <a:gridCol w="720720"/>
                <a:gridCol w="576360"/>
                <a:gridCol w="647640"/>
                <a:gridCol w="719280"/>
                <a:gridCol w="720720"/>
                <a:gridCol w="792000"/>
                <a:gridCol w="720720"/>
                <a:gridCol w="81288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начал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онц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среднеи по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Таблица 2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Дети, посещающие лагерь 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контрольная группа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1079640"/>
                <a:gridCol w="647640"/>
                <a:gridCol w="792000"/>
                <a:gridCol w="720720"/>
                <a:gridCol w="576360"/>
                <a:gridCol w="647640"/>
                <a:gridCol w="719280"/>
                <a:gridCol w="720720"/>
                <a:gridCol w="792000"/>
                <a:gridCol w="720720"/>
                <a:gridCol w="8128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начал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онц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среднеи по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4"/>
          <p:cNvGraphicFramePr/>
          <p:nvPr/>
        </p:nvGraphicFramePr>
        <p:xfrm>
          <a:off x="0" y="260280"/>
          <a:ext cx="9144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0" y="0"/>
          <a:ext cx="8964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целенаправленное применение подвижных игр положительно воздействует на формирование всех двигательных каче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использование расширенного объема подвижных игр способствует более высокому приросту двигательных каче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дети экспериментальной группы (посещающие оздоровительный лагерь) с увеличенным объемом подвижных игр превосходят детей контрольной группы (не посещающих оздоровительный лагерь) по темпам прироста показателей физической подготовленно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Проблема исследования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заключается во влиянии подвижных игр на развитие детей и их личностных качеств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Цель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Разработать и доказать эффективность  подвижных игр для развития детей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Объект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оцесс развития личности средствами игровой деятельности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Предмет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влияние подвижных игр на физическое развитие детей в детском оздоровительном лагер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научную, научно-методическую и специальную  литературу по данной проблем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характеристику современного состояния применения игровой деятельности в развитии детей  в детском оздоровительном лагер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работать комплекс  подвижных игр для  ДОЛ, способствующих процессу активного развития де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значимость подвижных игр в развитии де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Гипотеза исследования: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Если разработать специальный комплекс подвижных игр для детского оздоровительного лагеря, то можно будет более эффективно организовать процесс развития дете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трольные упражнения 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г 60 мет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и в длину с разбе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и в высо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тание мяча 150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тягива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Мальчики на высокой перекладине из ви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евочки на низкой перекладине из виса леж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Группы, принимающие участие в эксперимент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Дети, посещающие лагерь (контрольная 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Дети, не посещающие  лагерь. (экспериментальная 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3:37:23Z</dcterms:created>
  <dc:creator>Таня</dc:creator>
  <dc:description/>
  <dc:language>en-US</dc:language>
  <cp:lastModifiedBy>Максим</cp:lastModifiedBy>
  <dcterms:modified xsi:type="dcterms:W3CDTF">2010-10-30T18:13:44Z</dcterms:modified>
  <cp:revision>8</cp:revision>
  <dc:subject/>
  <dc:title>Слайд 1</dc:title>
</cp:coreProperties>
</file>