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B89-D24E-41B5-9527-DE66507F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8D8-641B-4BFE-AA67-01115956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5CC-D26C-4AB6-AD48-1F17823E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EA2-A2C9-4024-96F8-62CD714C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9BC-0972-4E85-A652-A84B3767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3D7-6EB1-4BDD-8472-326594F9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420-EC7E-4505-83E4-8DACEFBE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BBB-7BB0-40FC-B98D-C520361C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B8C-C534-481F-ABFB-2423E7FA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4EB-EF7A-4106-BDDB-DE8A9930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8C6-21F3-4142-BEDB-6235CB56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A26-F692-4AE4-94C5-28BE7C28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9BD2C80E-57DF-467D-A7A7-7A1859C8B798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03280"/>
            <a:ext cx="32004000" cy="21366000"/>
            <a:chOff x="0" y="503280"/>
            <a:chExt cx="32004000" cy="21366000"/>
          </a:xfrm>
        </p:grpSpPr>
        <p:sp>
          <p:nvSpPr>
            <p:cNvPr id="43" name=""/>
            <p:cNvSpPr/>
            <p:nvPr/>
          </p:nvSpPr>
          <p:spPr>
            <a:xfrm>
              <a:off x="738360" y="1596960"/>
              <a:ext cx="30351240" cy="2027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2120" y="503280"/>
              <a:ext cx="307213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Омский Государственный Технический Университе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399560" y="20269080"/>
              <a:ext cx="1714320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азработал: студент АСОИУ Геттих М.В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уководитель: Гл.конструктор НПО «Автоматика» Чегодаев В.Н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938240"/>
              <a:ext cx="3200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Дипломный проект</a:t>
              </a:r>
              <a:r>
                <a:rPr b="0" lang="en-US" sz="4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3600"/>
              </a:br>
              <a:r>
                <a:rPr b="0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6360" y="20954880"/>
              <a:ext cx="3705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Сургут 199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280" y="3505320"/>
              <a:ext cx="9535320" cy="91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Внедрение системы позволит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1480" y="17525880"/>
              <a:ext cx="88614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тоимость разработки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68 000 руб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рок окупаемости 8 мес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атформа: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indows 9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287000" y="8610480"/>
            <a:ext cx="13235040" cy="6600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287000" y="8610480"/>
                      <a:ext cx="13235040" cy="660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371600" y="4572000"/>
              <a:ext cx="15849720" cy="376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дготовить отчеты в ГНИ за 1 день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Резко снизить вероятность штрафо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лучить полную информацию о заработной плате в любом разрезе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0" y="10134720"/>
              <a:ext cx="6856200" cy="809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4700" spc="-1" strike="noStrike">
                  <a:solidFill>
                    <a:srgbClr val="000000"/>
                  </a:solidFill>
                  <a:latin typeface="Times New Roman"/>
                </a:rPr>
                <a:t>Основные возможности: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6640" y="10972800"/>
              <a:ext cx="1093536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t">
              <a:spAutoFit/>
            </a:bodyPr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Сбор информации о дохода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Перерасчет подоходного налог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Формирование отчетов в ГНИ Р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Выдача отчетов для ОТи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Работа с плановым отделом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(в перспективе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40360" y="6035760"/>
              <a:ext cx="4431960" cy="2009520"/>
            </a:xfrm>
            <a:prstGeom prst="wedgeRoundRectCallout">
              <a:avLst>
                <a:gd name="adj1" fmla="val -85671"/>
                <a:gd name="adj2" fmla="val 246842"/>
                <a:gd name="adj3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ff00"/>
                </a:gs>
              </a:gsLst>
              <a:lin ang="5400000"/>
            </a:gra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ctr">
              <a:noAutofit/>
            </a:bodyPr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День внедрени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421720" y="4419720"/>
              <a:ext cx="10744200" cy="15479280"/>
              <a:chOff x="20421720" y="4419720"/>
              <a:chExt cx="10744200" cy="1547928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24302520" y="15355800"/>
                <a:ext cx="5262840" cy="25178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421720" y="19318320"/>
                <a:ext cx="1021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Компьютеры в бухгалтериях подразделени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146000" y="13868280"/>
                <a:ext cx="2867040" cy="7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Серве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200240" y="17108640"/>
                <a:ext cx="247356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21713760" y="15355440"/>
                <a:ext cx="2589120" cy="236700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24302880" y="15355800"/>
                <a:ext cx="1144800" cy="24386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2600" y="17108640"/>
                <a:ext cx="2473200" cy="22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0760" y="17184600"/>
                <a:ext cx="23734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73240" y="971388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393520" y="5070600"/>
                <a:ext cx="3295440" cy="34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 flipV="1">
                <a:off x="24534720" y="11239560"/>
                <a:ext cx="3430800" cy="1906560"/>
              </a:xfrm>
              <a:prstGeom prst="line">
                <a:avLst/>
              </a:prstGeom>
              <a:ln w="152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4456960" y="8421480"/>
                <a:ext cx="231840" cy="4267080"/>
              </a:xfrm>
              <a:prstGeom prst="line">
                <a:avLst/>
              </a:prstGeom>
              <a:ln w="15228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57480" y="5146560"/>
                <a:ext cx="3295440" cy="34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V="1">
                <a:off x="24456960" y="8373600"/>
                <a:ext cx="3016440" cy="4467240"/>
              </a:xfrm>
              <a:prstGeom prst="line">
                <a:avLst/>
              </a:prstGeom>
              <a:ln cap="rnd" w="152280">
                <a:solidFill>
                  <a:srgbClr val="3333cc"/>
                </a:solidFill>
                <a:custDash>
                  <a:ds d="100000" sp="1000"/>
                </a:custDash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11320" y="8763120"/>
                <a:ext cx="395460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налоговой политик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44760" y="460044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Плановый отдел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783680" y="441972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ОТи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04480" y="1192356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9-10-22T04:39:17Z</dcterms:modified>
  <cp:revision>38</cp:revision>
  <dc:subject/>
  <dc:title>Заголовок слайда отсутствует</dc:title>
</cp:coreProperties>
</file>