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E26-97B0-44B3-B862-8C23A368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34E-ACDD-49B5-814D-B7005E81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3C6-0F58-46E9-BC16-69D7B29E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D8B-4147-4060-8FC6-0DCDBEBC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4BD4-2399-4E27-8A76-A6562534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8E37-9AA6-4C80-87DB-FB547814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D7DF-50E7-40FC-9151-2DE39FC6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86EB-7D86-49F1-A874-040322F0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42C4-B9A1-4C4A-8D62-5B23E732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C19F-06DE-4E09-B743-880A0891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A554-61F6-42EB-A3BF-1BD75536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791-343C-4132-9247-55D5EB64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26BF-8547-488B-9177-9914F78C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03D-19FF-49E4-A6FF-30E4161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59AB-8C72-47B7-A283-A7755166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A4CD-F279-4A87-A7A5-E7AAD33C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CBE7-2D34-4299-AFF6-8101EA6D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88D-AC42-45DB-96FD-5C890A0B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C8F-A070-4A8A-9322-D8300149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990-A3FD-4286-B74A-9345D20B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356-700D-465E-A628-DAB3613E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5B3-E551-473A-9480-32A2B25A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ECE-564D-48D6-B0CC-1B77C4BE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38A-B783-4937-A940-77717E0F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1BE3-C797-4EA2-9748-3D1F018208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5550-1169-4DDC-A8D4-6E8077FAC7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рганизация работы по профилактике суицида в образовательной сред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4724280"/>
            <a:ext cx="8537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кладчи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леся Ракова, педагог-психоло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бинет психологической помощи «Инсайт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ДТ ПМЦ «Таншолпан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. Степногорс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етий уровень –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торичная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офилактик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85406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Предотвращение самоубий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ценка риска самоубий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овещение соответствующего учреждения психического здоровья (психиатрическая клиника?), запрос помощи. Оповещение род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бор случая со школьным персоналом, который был включен в работу, так чтобы он мог выразить свои чувства, переживания, внести предложения относительно стратегий и плана рабо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800760" y="0"/>
            <a:ext cx="2343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етвертый уровень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третичная профилак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 последствий и уменьшение вероятности дальнейших случае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овещение, возмож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консультироваться 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сихологом, внимание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моциональному климату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коле и его изменени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207040" y="3429000"/>
            <a:ext cx="3936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320" y="304920"/>
            <a:ext cx="8537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Если самоубийство официально признается причиной смерти учащегося, тогда в уведомлении о причине смерти в среде учащихся должно звучать слово «самоубийство», а не «несчастный случай» или «неизвестная причина смерти». Однако ни в коем случае не должно быть упоминания средств совершения самоубий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Собрать близких друзей и дать возможность работы со специалистом в области психического здоровь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Друзьям и учащимся должно быть разрешено посещение похорон. Но они не должны нести гроб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Будьте готовы сказать «нет» на все просьбы о проведении вечера памяти в честь погибшего учащегося. Это может увеличить возможность эпидемии самоубийст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етвертый уровень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третичная профилак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циальная и психологическая реабилитация суицид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убинная психотерапевтическая коррекция, обеспечивающая профилактику образования конфликтно-стрессовых переживаний в дальнейш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урмистрова Е.В.. Психологическая помощь в кризисных ситуациях (предупреждение кризисных ситуаций в образовательной среде). Методические рекомендации для специалистов системы образования. М.: МГППУ, 200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роно Е.М. Предотвращение самоубийства. Руководство для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вчарова Р.В. Практическая психология образования.- М., 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ицид. О мерах профилактики суицида среди детей и подростков. Официальный сайт ФППМ ВШК (факультет Психолого-педагогического менеджмента Высшей Школы Социально-управленческого консалтинг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епанова Е. «Психологический стресс. Помоги себе и своему ребенку». М. 200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нова Г.В. Программа профилактики суицидального поведения "Перекресток". Сайт фестиваля "Открытый урок": http://festival.1septemb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cc"/>
                </a:solidFill>
                <a:uFillTx/>
                <a:latin typeface="Tahoma"/>
              </a:rPr>
              <a:t>Суицид</a:t>
            </a:r>
            <a:r>
              <a:rPr b="0" lang="en-US" sz="6600" spc="-1" strike="noStrike" u="sng">
                <a:solidFill>
                  <a:srgbClr val="ffffcc"/>
                </a:solidFill>
                <a:uFillTx/>
                <a:latin typeface="Tahoma"/>
              </a:rPr>
              <a:t> –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38098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умышленное самоповреждение со смертельным исходом, (лишение себя жизни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30524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              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Суицид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вляется одной из основных причин смерти у молодежи на сегодняшний де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ицид считается “убийцей № 2” молодых людей, в возрасте от пятнадцати до двадцати четырех л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бийцей № 1” являются несчастные случаи, в том числе передозировка наркотиков, дорожные происшествия, падения с мостов и зданий, самоотравления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 мнению  суицидологов, многие из этих несчастных случаев в действительности были суицидами, замаскированными под несчастные случа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И если суицидологи правы, то тогда главным “убийцей” подростков является суицид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чреждение образования, где подростки проводят треть дня, представляется идеальной средой для проведения программы предотвращения самоубийств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3352680"/>
            <a:ext cx="85406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и базовых вопроса могут быть заданы в этой связи: что должно быть сделано, чтобы предотвратить самоубийство, что должно быть сделано, когда молодой человек угрожает кончить жизнь самоубийством, и что необходимо делать, когда самоубийство произош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320" y="380880"/>
            <a:ext cx="579420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Уровни профилактики суицида в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образовательной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сред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7766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ервый уровень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бщая профилак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ель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вышение групповой сплоченности в школ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здание общих школьных программ психического здоровья, здоровой среды в школе, так чтобы дети чувствовали заботу, уют, любовь. Организация внеклассной воспитательной работы. Разработка эффективной модели взаимодействия школы и семьи, а также школы и всего со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торой уровень –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ервичная профилактик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 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деление групп суицидаль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ска; сопровождение детей, подростков и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мей группы риска с целью предупрежд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оубийст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агностика суицидального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дивидуальные и групповые занятия по обучению проблем-разрешающего поведения, поиска социальной поддержки, ее восприятия и оказания, повышению самооценки, развитию адекватного отношения к собственной личности, эмпат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943600" y="1335240"/>
            <a:ext cx="32004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торой уровень –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ервичная профилактик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Повышение осведомле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сонала и учащихся о признак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зможного суицида, факторах риск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утях действия в этой ситуа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ропри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ссные часы, круглые столы, стендовая информ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работка плана действий в случае самоубийства, в котором должны быть процедуры действия при выявлении учащегося группы риска, действия при угрозе самоубийства и после самоубийст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257800" y="1123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ksei</cp:lastModifiedBy>
  <dcterms:modified xsi:type="dcterms:W3CDTF">2009-03-29T13:24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